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842-F216-4DB1-9C6A-B80F8A58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97A-DAF7-4FFE-806C-21E449FE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C5C-B490-4EFB-8070-CA494E93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779-567A-418F-975C-3B9E9537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FD8-F830-412B-A4CC-F7A38B28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E77-0BD2-48DE-8D34-03B31A37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0CB-F467-47CB-B1B4-96707C30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2C7-F655-4C98-947A-0608D828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2AD-FFA8-478D-8123-07564A1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181-6C19-4513-B8B2-D2651F72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149-DD2D-45DA-8334-1C5ABED6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225-68A5-421B-820A-0F8466BB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527400" indent="-2026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2" marL="811440" indent="-16200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3" marL="1135800" indent="-1620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4" marL="1460520" indent="-162000">
              <a:spcBef>
                <a:spcPts val="799"/>
              </a:spcBef>
              <a:buClr>
                <a:srgbClr val="3333cc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5520" y="5891040"/>
            <a:ext cx="8836200" cy="835200"/>
            <a:chOff x="155520" y="5891040"/>
            <a:chExt cx="8836200" cy="8352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155520" y="5891040"/>
              <a:ext cx="14446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1523880" y="6670800"/>
              <a:ext cx="7467840" cy="0"/>
            </a:xfrm>
            <a:prstGeom prst="line">
              <a:avLst/>
            </a:prstGeom>
            <a:ln w="19080">
              <a:solidFill>
                <a:srgbClr val="0080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-27360" y="6618240"/>
            <a:ext cx="50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ahoma"/>
              </a:rPr>
              <a:t>Copyright © 2003 Center for Farm Financial Management, University of Minneso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705720" y="5943600"/>
            <a:ext cx="21333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7FB2-9852-44F5-902A-DE199ED7B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lender wants to know if your business will be financially successful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91600" y="373392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spouse wants to know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alance She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snapshot of how funds are invested in a business (assets) and the financing methods used (liabilities and owner’s equity) at a given point in ti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alance She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ost producers have an existing balance sheet because lenders require one annually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f you need to develop or update your balance sheet you can use FINPACK or use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come Stat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n income statement measures how much income the business is making in relation to the resources used to produce that inco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come Stat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Not all producers have an accrual income statemen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hould develop one for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an use FINPACK or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sh Flow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cash flow plan is a projection of all sources and uses of cash during a specified planning period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t evaluates the business’s ability to meet loan payments and other financial obligations on ti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sh Flow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ost producers have an annual cash flow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f you need to develop or update your cash flow plan you can use FINPACK or use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nclude a balance sheet, income statement, and cash flow plan in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0816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written description of the strengths of these three measurements of your financial projections should also be included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lso describe the assumptions you used to make your financial projection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Your Financial Number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Generating your financial statements from  a program like FINPACK will make development of your business plan easier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PACK provides not only a balance sheet, income statement, and cash flow, but also financial ratios to help evaluate the meaning of your financial number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set Manag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financial plan should also describe how you acquire and manage capital assets - purchase, lease, or custom hire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How efficiently are assets being used?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n many cases, the financial plan is the most important part of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financial plan is particularly important if you are proposing a major change or a new busines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set Manag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n analysis of your investment in capital assets relative to the size of your business may be valuable as you plan the future of your business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sset management is often the best indicator of future net worth growth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pital Requir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final part of your financial plan should describe how much money you need to implement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Describe the sources of your financing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resent your financing request if you have one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Guide worksheet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 – worksheet 4.35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jected profitability - worksheet 4.33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 – worksheet 4.34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PACK Business Plan software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Asset managemen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jected 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Long range projection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Historical trend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pital required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What do you need to include in your business plan to communicate financial viability?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ancial viability is generally evaluated from three perspectives: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Solvenc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Liquid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olvency evaluates changes in net worth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wth in your retirement accoun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rofitability monitor earning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ability to generate income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Liquidity estimates cash flow and debt repayment ability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aying the bills when due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olvenc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ompares the assets invested (what you own) in the business with the sources of capital (liabilities – what you owe and your net worth)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n up to date balance sheet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fitabil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easures the earnings of the busines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n accrual income statement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Optionally use average net income from 3 years Schedule F tax form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quid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easures the ability of the business to generate cash to meet short term obligation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 cash flow statement, usually projected for next year or more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tools used to communicate a  business’s financial situation are: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 - solvenc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Income statement - 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 plan – liquid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20:27:03Z</dcterms:created>
  <dc:creator>Applied Economics</dc:creator>
  <dc:description/>
  <dc:language>en-US</dc:language>
  <cp:lastModifiedBy>M S O</cp:lastModifiedBy>
  <cp:lastPrinted>2001-06-07T14:32:23Z</cp:lastPrinted>
  <dcterms:modified xsi:type="dcterms:W3CDTF">2008-10-19T18:36:21Z</dcterms:modified>
  <cp:revision>193</cp:revision>
  <dc:subject/>
  <dc:title>No Slide Title</dc:title>
</cp:coreProperties>
</file>